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A80-9F9B-4DD4-9509-EC6D1B77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63F-FE21-47D5-9B54-64460465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242-88A0-4E21-A19D-F80A1294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4AC-FBA0-4CBE-BA0A-02B8A633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5E634-A4AA-465A-BF63-658A518F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CF8F5-28BD-4DA9-9AAB-F6700052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EFA5F-4E50-4931-A202-249E5E09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8CCF9-21FE-4EA1-9EE3-055B3666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4767D-B918-4E30-960D-E2FC1B18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91426-12CF-4D4C-9B3C-25855F79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EAA60-8A86-4C35-9736-36894F60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05D-D366-4281-A0D0-5E95F9C4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B7D14-6488-4C5F-B012-BA790969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99575-FCA8-4A98-9CB5-60861F0D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6330A-F7FB-4AEE-B5BB-62E303A8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05E46-5C3A-4F30-9003-3C2C86FA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18983-CD54-41F3-8C4A-C22CD530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660-A26E-4813-873C-4F802FBB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A13-6E7C-4081-9DE3-362DF97F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BCC-0BA1-4FBB-9354-BB262AD9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C85-E5F0-4046-84EF-1884D263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536-5741-4D2B-81CA-E3F1B4B0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0B4-C9B7-467E-8359-862E4BCC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7F0-2C50-4551-BBEB-0E7A5E69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6860-27F4-4481-8905-8FF36D4EE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DC0A-4054-4F35-BB3D-0A272102B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hyperlink" Target="http://delivery.kundelink.dk/kunder/efficiensea/index.php" TargetMode="External"/><Relationship Id="rId4" Type="http://schemas.openxmlformats.org/officeDocument/2006/relationships/hyperlink" Target="http://delivery.kundelink.dk/kunder/efficiensea/index.php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8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8773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eal AIS AtoN – Herald Patches Buo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lert Patches buoy AIS AtoN depicted on radar 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8791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IS symbology inconsistency on some radar &amp; ECDIS (from Dampier Port tri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2189160" cy="1477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4076640" cy="13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3705480" cy="159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206064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IS integrated into radar 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393372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one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4600" y="5373720"/>
            <a:ext cx="42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DIS display (another manufactur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everal ECDIS operating anomalies have been recently highlighted to the IMO NAV  Sub-Committ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plan to issue two fictitious Electronic Navigation Charts (ENCs) that are designed to alert mariners to the possibility that their ECDIS software may require upgra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22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HO will identify how the different brands of ECDIS display and handle EN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4492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is information will be used to inform the IMO, national Hydrographic Offices, ECDIS manufacturers and others, so that they can take any corrective 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592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unofficial ECDIS experts group meeting outcomes (Jan 20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1050480"/>
            <a:ext cx="60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Underway” Conference Jan 201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673440"/>
            <a:ext cx="73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Conference report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372360" y="836640"/>
            <a:ext cx="2555640" cy="191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020000" y="192240"/>
            <a:ext cx="18730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igation Architecture – design and implementation guidance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uding AtoN metadata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Nav develop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30000"/>
              </a:lnSpc>
              <a:spcBef>
                <a:spcPts val="18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O unofficial ECDIS experts group meeting outcomes (Jan 201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3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NAV11 outco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ft IALA submission to IMO on e-Navigation, addressing issues such as the regulatory process, usability, IHO Registry and the development of an integrated PNT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spcBef>
                <a:spcPts val="15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essed graphical representation of the timeline (road map) for the development and implementation of e-navig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731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6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igation Architecture – design and implementation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AIS and VHF Data Communications in e-Navigation” completed – will be circulated other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mmended use of the term AIS for the existing AIS functionality and the term VHF Data Exchange (VDE) for other data communication capabilities based on “AIS-technology”  e.g. weather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guidance for "goal-based" standards (rather than prescriptive standards) for portrayal of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MO has agreed that the IHO Registry should form the basis for its Common Maritime Data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ALA Council has been asked to agree that IALA should become both a Submitting Organization and a domain owner within the IHO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Draft Draft Guideline on Procedures for the Management of the IALA Domains under the IHO Registry was finalis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duct specifications are being developed within the S-100 framework for three applications within IALA’s rem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toN Information standard (refer to ANM 18/9/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ter VTS Exchange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AI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34144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28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O Common Maritime Data Structure including AtoN information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st bed example - Under keel clearance management system in the Torres Stra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Declared operational Nov 2011 but only voluntary use by coastal pilots at this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3 year e-navigation study program by Capt. Antonio Di Lieto focussing on human-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Will include audit of operations on board cruise ships and the use of full mission simul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8379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symposium in July 2013 aimed at building understanding of e-navigation among countries in the Asia-Pacific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ous AIS AtoN deployments in ports and  AMSA trials in some major coastal water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ing of supplementary channel in Port of Gladstone for sole use by construction vessel traffic with mandatory use of AIS B by those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trials of real, synthetic and virtual AtoN on buoys and fixed structures very well received by coastal pi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ther e-Nav develop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0720" indent="-45072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CCSEAS (ACCessibility for Shipping, Efficiency Advantages and Sustainability) pro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ill implement an e-Navigation Test Bed for the North Sea as a prototype, proof-of-concept system of aids to nav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ladstone Port 2nd Channel marked with Virtual AIS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048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gpb</cp:lastModifiedBy>
  <dcterms:modified xsi:type="dcterms:W3CDTF">2012-04-23T13:41:44Z</dcterms:modified>
  <cp:revision>98</cp:revision>
  <dc:subject/>
  <dc:title>Slide 1</dc:title>
</cp:coreProperties>
</file>