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5EC-6233-400C-999A-CA07B4ED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EF3-0F97-4C3B-BF35-CDE97B14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C54-E414-4C3B-900E-5ED99EDB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7D6-AA8E-4098-BCAC-C8B8A740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AE60C-30A5-4C51-9411-62F850BC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467B4-4BDE-4971-A1A3-198048D5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262B4-8B4E-4E6F-819C-C9BCA50F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E846F-231C-4F2D-B6DE-FAFCB1C0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DD488-679E-4CC5-80CF-57581F39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29E79-1318-47D4-85CD-DA0803A2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A65D5-6DC5-44CC-BC4C-61F411B7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8E3-DD41-4892-B512-235C32A4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5BA5C-B68B-4889-998B-060C524A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C1C97-B087-4975-A8AB-2E125561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36646-B53D-4EC7-B69C-1195FCA0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252AA-FA45-4A07-9BC6-942D0EFC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5CBEA-CFB9-40F5-9B9D-E2E8121F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3DE-6306-4DF8-ABE9-F362B4AA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2F0-86BE-4FAB-82CA-A2E51798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614-9479-4F56-AD26-83BAAE33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BEF-8F85-4364-8EA5-D9E51ED7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E4F-B15E-4663-8DCA-DB30F91F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779-671A-43BD-9BDD-DB245AE8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3C9-7ADD-4DC9-B1A7-BAF97D59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3BFB-F360-4862-926C-3F4FF29C8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A55C-4F7C-47DF-8C95-8B5BA7715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http://delivery.kundelink.dk/kunder/efficiensea/index.php" TargetMode="External"/><Relationship Id="rId4" Type="http://schemas.openxmlformats.org/officeDocument/2006/relationships/hyperlink" Target="http://delivery.kundelink.dk/kunder/efficiensea/index.php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8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8773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 AIS AtoN – Herald Patches Bu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ert Patches buoy AIS AtoN depicted on radar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879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IS symbology inconsistency on some radar &amp; ECDIS (from Dampier Port tr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189160" cy="14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076640" cy="13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705480" cy="15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206064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S integrated into radar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39337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one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4600" y="5373720"/>
            <a:ext cx="42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another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veral ECDIS operating anomalies have been recently highlighted to the IMO NAV  Sub-Committ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plan to issue two fictitious Electronic Navigation Charts (ENCs) that are designed to alert mariners to the possibility that their ECDIS software may require upgra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will identify how the different brands of ECDIS display and handle EN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4492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is information will be used to inform the IMO, national Hydrographic Offices, ECDIS manufacturers and others, so that they can take any correc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592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unofficial ECDIS experts group meeting outcomes (Jan 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504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Underway” Conference Jan 20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673440"/>
            <a:ext cx="73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Conference report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372360" y="83664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020000" y="192240"/>
            <a:ext cx="18730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igation Architecture – design and implementation guidanc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uding AtoN metadata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O unofficial ECDIS experts group meeting outcomes (Jan 201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NAV11 outco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 IALA submission to IMO on e-Navigation, addressing issues such as the regulatory process, usability, IHO Registry and the development of an integrated PNT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ed graphical representation of the timeline (road map) for the development and implementation of e-navig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731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AIS and VHF Data Communications in e-Navigation” completed – will be circulated other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use of the term AIS for the existing AIS functionality and the term VHF Data Exchange (VDE) for other data communication capabilities based on “AIS-technology”  e.g. weather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guidance for "goal-based" standards (rather than prescriptive standards) for portrayal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O has agreed that the IHO Registry should form the basis for its Common Maritime Data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ALA Council has been asked to agree that IALA should become both a Submitting Organization and a domain owner within the IHO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ft Draft Guideline on Procedures for the Management of the IALA Domains under the IHO Registry was finalis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duct specifications are being developed within the S-100 framework for three applications within IALA’s rem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toN Information standard (refer to ANM 18/9/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r VTS Exchange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28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Common Maritime Data Structure including AtoN information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st bed example - Under keel clearance management system in the Torres Str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clared operational Nov 2011 but only voluntary use by coastal pilots at this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year e-navigation study program by Capt. Antonio Di Lieto focussing on human-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Will include audit of operations on board cruise ships and the use of full mission simul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8379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symposium in July 2013 aimed at building understanding of e-navigation among countries in the Asia-Pacific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AIS AtoN deployments in ports and  AMSA trials in some major coastal water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ing of supplementary channel in Port of Gladstone for sole use by construction vessel traffic with mandatory use of AIS B by thos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trials of real, synthetic and virtual AtoN on buoys and fixed structures very well received by coastal pi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ther e-Nav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CCSEAS (ACCessibility for Shipping, Efficiency Advantages and Sustainability) pro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ll implement an e-Navigation Test Bed for the North Sea as a prototype, proof-of-concept system of aids to nav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ladstone Port 2nd Channel marked with Virtual AIS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gpb</cp:lastModifiedBy>
  <dcterms:modified xsi:type="dcterms:W3CDTF">2012-04-23T13:41:44Z</dcterms:modified>
  <cp:revision>98</cp:revision>
  <dc:subject/>
  <dc:title>Slide 1</dc:title>
</cp:coreProperties>
</file>