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6279-3AF5-46BD-9CBE-4B097E21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335-0B13-4C3C-B1E9-2722E4F4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78A-6A7E-4C90-9299-D266576A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104-5910-48D0-9929-29C3E27F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0E2-9887-4F35-BDE6-930BBC31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170-54DD-4A02-AB50-193664E4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A08-BC2E-442D-9FA4-19DB8F5E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B6B-922D-4293-A792-25E69942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4EE-EB44-4C04-8AEA-52F6BE17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0BB2-147C-4167-B540-DA876C50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C79-6DFA-486D-9283-A474CB0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1FC-DCA3-447C-9D5D-BE529888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F23E-775D-4EF6-B17C-E5AAD8199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125360"/>
            <a:ext cx="6840720" cy="518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7080" y="712800"/>
            <a:ext cx="78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domain of maritime services = sum of all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ritime Services Portfolio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3645000"/>
            <a:ext cx="86407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000" y="3715920"/>
            <a:ext cx="459360" cy="2592360"/>
            <a:chOff x="9000" y="3715920"/>
            <a:chExt cx="459360" cy="2592360"/>
          </a:xfrm>
        </p:grpSpPr>
        <p:sp>
          <p:nvSpPr>
            <p:cNvPr id="45" name=""/>
            <p:cNvSpPr/>
            <p:nvPr/>
          </p:nvSpPr>
          <p:spPr>
            <a:xfrm flipV="1">
              <a:off x="468360" y="3715920"/>
              <a:ext cx="0" cy="25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0800000">
              <a:off x="9000" y="3861360"/>
              <a:ext cx="454680" cy="22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„</a:t>
              </a: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by electronic means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000" y="707040"/>
            <a:ext cx="459360" cy="2865960"/>
            <a:chOff x="9000" y="707040"/>
            <a:chExt cx="459360" cy="2865960"/>
          </a:xfrm>
        </p:grpSpPr>
        <p:sp>
          <p:nvSpPr>
            <p:cNvPr id="48" name=""/>
            <p:cNvSpPr/>
            <p:nvPr/>
          </p:nvSpPr>
          <p:spPr>
            <a:xfrm flipV="1">
              <a:off x="468360" y="980640"/>
              <a:ext cx="0" cy="2592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0800000">
              <a:off x="9000" y="707040"/>
              <a:ext cx="454680" cy="269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Not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„by electronic means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26920" y="3789360"/>
            <a:ext cx="6697800" cy="2376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-Navigation Strategy /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00000" y="1268280"/>
            <a:ext cx="935280" cy="4824720"/>
            <a:chOff x="900000" y="1268280"/>
            <a:chExt cx="935280" cy="4824720"/>
          </a:xfrm>
        </p:grpSpPr>
        <p:sp>
          <p:nvSpPr>
            <p:cNvPr id="52" name=""/>
            <p:cNvSpPr/>
            <p:nvPr/>
          </p:nvSpPr>
          <p:spPr>
            <a:xfrm>
              <a:off x="900000" y="1268280"/>
              <a:ext cx="935280" cy="48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0800000">
              <a:off x="1116000" y="1485720"/>
              <a:ext cx="454680" cy="19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ids-to-Navig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979640" y="1268280"/>
            <a:ext cx="934920" cy="4824720"/>
            <a:chOff x="1979640" y="1268280"/>
            <a:chExt cx="934920" cy="4824720"/>
          </a:xfrm>
        </p:grpSpPr>
        <p:sp>
          <p:nvSpPr>
            <p:cNvPr id="55" name=""/>
            <p:cNvSpPr/>
            <p:nvPr/>
          </p:nvSpPr>
          <p:spPr>
            <a:xfrm>
              <a:off x="1979640" y="1268280"/>
              <a:ext cx="934920" cy="48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2194920" y="2904840"/>
              <a:ext cx="4546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987640" y="1217160"/>
            <a:ext cx="934920" cy="4875840"/>
            <a:chOff x="2987640" y="1217160"/>
            <a:chExt cx="934920" cy="4875840"/>
          </a:xfrm>
        </p:grpSpPr>
        <p:sp>
          <p:nvSpPr>
            <p:cNvPr id="58" name=""/>
            <p:cNvSpPr/>
            <p:nvPr/>
          </p:nvSpPr>
          <p:spPr>
            <a:xfrm>
              <a:off x="2987640" y="1268280"/>
              <a:ext cx="934920" cy="48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800000">
              <a:off x="3117600" y="1217160"/>
              <a:ext cx="729000" cy="24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MDSS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Modernisation projec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16720" y="1268280"/>
            <a:ext cx="934920" cy="4824720"/>
            <a:chOff x="6516720" y="1268280"/>
            <a:chExt cx="934920" cy="4824720"/>
          </a:xfrm>
        </p:grpSpPr>
        <p:sp>
          <p:nvSpPr>
            <p:cNvPr id="61" name=""/>
            <p:cNvSpPr/>
            <p:nvPr/>
          </p:nvSpPr>
          <p:spPr>
            <a:xfrm>
              <a:off x="6516720" y="1268280"/>
              <a:ext cx="934920" cy="4824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0800000">
              <a:off x="6733800" y="2525760"/>
              <a:ext cx="45468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ilo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067280" y="3500280"/>
            <a:ext cx="934920" cy="2592720"/>
            <a:chOff x="4067280" y="3500280"/>
            <a:chExt cx="934920" cy="2592720"/>
          </a:xfrm>
        </p:grpSpPr>
        <p:sp>
          <p:nvSpPr>
            <p:cNvPr id="64" name=""/>
            <p:cNvSpPr/>
            <p:nvPr/>
          </p:nvSpPr>
          <p:spPr>
            <a:xfrm>
              <a:off x="4067280" y="3500280"/>
              <a:ext cx="934920" cy="2592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0800000">
              <a:off x="4284720" y="5270400"/>
              <a:ext cx="454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R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284720" y="2205000"/>
            <a:ext cx="2087640" cy="2592360"/>
            <a:chOff x="4284720" y="2205000"/>
            <a:chExt cx="2087640" cy="2592360"/>
          </a:xfrm>
        </p:grpSpPr>
        <p:sp>
          <p:nvSpPr>
            <p:cNvPr id="67" name=""/>
            <p:cNvSpPr/>
            <p:nvPr/>
          </p:nvSpPr>
          <p:spPr>
            <a:xfrm>
              <a:off x="4284720" y="2205000"/>
              <a:ext cx="208764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19640" y="479736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601400" y="3755520"/>
            <a:ext cx="127764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rking fields of e-Na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ipboard equipm., Comm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NT, Shore-based infr.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M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06:58:39Z</dcterms:created>
  <dc:creator>joltmann</dc:creator>
  <dc:description/>
  <dc:language>en-US</dc:language>
  <cp:lastModifiedBy>joltmann</cp:lastModifiedBy>
  <dcterms:modified xsi:type="dcterms:W3CDTF">2012-09-26T08:28:02Z</dcterms:modified>
  <cp:revision>5</cp:revision>
  <dc:subject/>
  <dc:title>Folie 1</dc:title>
</cp:coreProperties>
</file>