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F90-EA21-40A7-A36E-C4813F49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189-D777-488A-BEC5-D3972AEE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B4E-E42B-432B-A8D7-28CAD3E9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73E-5B8E-4BED-9945-C0B2EFEB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A0D-C6AF-4070-832E-A0E1669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523-A5D6-4E7C-9CC2-5B7B9046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00A-0B33-434B-B63A-AFD3F0B0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185-3591-4876-9DEE-0792504A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9A1-164C-45FC-930F-F4B43D2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582-14A5-4149-B606-BB2FD7BC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FC8-9F6E-4220-A2BF-B386FE6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244-10DF-4C25-97BB-F0B851A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F08C-C5E6-41E9-AB08-D90F430C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125360"/>
            <a:ext cx="6840720" cy="518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7080" y="712800"/>
            <a:ext cx="78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domain of maritime services = sum of al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ritime Services Portfolio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645000"/>
            <a:ext cx="86407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000" y="3715920"/>
            <a:ext cx="459360" cy="2592360"/>
            <a:chOff x="9000" y="3715920"/>
            <a:chExt cx="459360" cy="2592360"/>
          </a:xfrm>
        </p:grpSpPr>
        <p:sp>
          <p:nvSpPr>
            <p:cNvPr id="45" name=""/>
            <p:cNvSpPr/>
            <p:nvPr/>
          </p:nvSpPr>
          <p:spPr>
            <a:xfrm flipV="1">
              <a:off x="468360" y="3715920"/>
              <a:ext cx="0" cy="25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9000" y="3861360"/>
              <a:ext cx="454680" cy="22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„</a:t>
              </a: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by electronic means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000" y="707040"/>
            <a:ext cx="459360" cy="2865960"/>
            <a:chOff x="9000" y="707040"/>
            <a:chExt cx="459360" cy="2865960"/>
          </a:xfrm>
        </p:grpSpPr>
        <p:sp>
          <p:nvSpPr>
            <p:cNvPr id="48" name=""/>
            <p:cNvSpPr/>
            <p:nvPr/>
          </p:nvSpPr>
          <p:spPr>
            <a:xfrm flipV="1">
              <a:off x="468360" y="980640"/>
              <a:ext cx="0" cy="25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9000" y="707040"/>
              <a:ext cx="454680" cy="26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Not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„by electronic means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26920" y="3789360"/>
            <a:ext cx="6697800" cy="2376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-Navigation Strategy /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00000" y="1268280"/>
            <a:ext cx="935280" cy="4824720"/>
            <a:chOff x="900000" y="1268280"/>
            <a:chExt cx="935280" cy="4824720"/>
          </a:xfrm>
        </p:grpSpPr>
        <p:sp>
          <p:nvSpPr>
            <p:cNvPr id="52" name=""/>
            <p:cNvSpPr/>
            <p:nvPr/>
          </p:nvSpPr>
          <p:spPr>
            <a:xfrm>
              <a:off x="900000" y="1268280"/>
              <a:ext cx="935280" cy="48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116000" y="1485720"/>
              <a:ext cx="454680" cy="19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ids-to-Navig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979640" y="1268280"/>
            <a:ext cx="934920" cy="4824720"/>
            <a:chOff x="1979640" y="1268280"/>
            <a:chExt cx="934920" cy="4824720"/>
          </a:xfrm>
        </p:grpSpPr>
        <p:sp>
          <p:nvSpPr>
            <p:cNvPr id="55" name=""/>
            <p:cNvSpPr/>
            <p:nvPr/>
          </p:nvSpPr>
          <p:spPr>
            <a:xfrm>
              <a:off x="1979640" y="1268280"/>
              <a:ext cx="934920" cy="48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2194920" y="2904840"/>
              <a:ext cx="4546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987640" y="1217160"/>
            <a:ext cx="934920" cy="4875840"/>
            <a:chOff x="2987640" y="1217160"/>
            <a:chExt cx="934920" cy="4875840"/>
          </a:xfrm>
        </p:grpSpPr>
        <p:sp>
          <p:nvSpPr>
            <p:cNvPr id="58" name=""/>
            <p:cNvSpPr/>
            <p:nvPr/>
          </p:nvSpPr>
          <p:spPr>
            <a:xfrm>
              <a:off x="2987640" y="1268280"/>
              <a:ext cx="934920" cy="48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3117600" y="1217160"/>
              <a:ext cx="729000" cy="24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MDS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Modernisation proje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16720" y="1268280"/>
            <a:ext cx="934920" cy="4824720"/>
            <a:chOff x="6516720" y="1268280"/>
            <a:chExt cx="934920" cy="4824720"/>
          </a:xfrm>
        </p:grpSpPr>
        <p:sp>
          <p:nvSpPr>
            <p:cNvPr id="61" name=""/>
            <p:cNvSpPr/>
            <p:nvPr/>
          </p:nvSpPr>
          <p:spPr>
            <a:xfrm>
              <a:off x="6516720" y="1268280"/>
              <a:ext cx="934920" cy="48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6733800" y="2525760"/>
              <a:ext cx="45468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ilo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067280" y="3500280"/>
            <a:ext cx="934920" cy="2592720"/>
            <a:chOff x="4067280" y="3500280"/>
            <a:chExt cx="934920" cy="2592720"/>
          </a:xfrm>
        </p:grpSpPr>
        <p:sp>
          <p:nvSpPr>
            <p:cNvPr id="64" name=""/>
            <p:cNvSpPr/>
            <p:nvPr/>
          </p:nvSpPr>
          <p:spPr>
            <a:xfrm>
              <a:off x="4067280" y="3500280"/>
              <a:ext cx="934920" cy="2592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284720" y="5270400"/>
              <a:ext cx="454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R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284720" y="2205000"/>
            <a:ext cx="2087640" cy="2592360"/>
            <a:chOff x="4284720" y="2205000"/>
            <a:chExt cx="2087640" cy="2592360"/>
          </a:xfrm>
        </p:grpSpPr>
        <p:sp>
          <p:nvSpPr>
            <p:cNvPr id="67" name=""/>
            <p:cNvSpPr/>
            <p:nvPr/>
          </p:nvSpPr>
          <p:spPr>
            <a:xfrm>
              <a:off x="4284720" y="2205000"/>
              <a:ext cx="2087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19640" y="479736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601400" y="3755520"/>
            <a:ext cx="127764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king fields of e-Na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ipboard equipm., Com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NT, Shore-based infr.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M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6:58:39Z</dcterms:created>
  <dc:creator>joltmann</dc:creator>
  <dc:description/>
  <dc:language>en-US</dc:language>
  <cp:lastModifiedBy>joltmann</cp:lastModifiedBy>
  <dcterms:modified xsi:type="dcterms:W3CDTF">2012-09-26T08:28:02Z</dcterms:modified>
  <cp:revision>5</cp:revision>
  <dc:subject/>
  <dc:title>Folie 1</dc:title>
</cp:coreProperties>
</file>